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1AE-DB23-457D-9835-F39ADE22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126-06D4-4854-B51C-E44BD55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E59-A022-4912-BC05-062B8C85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3ED-A22E-4D67-BA12-6FDFC399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90F8-8728-48C0-95B1-A31B0588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903-94A0-432E-A17A-CCFD8E8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9E04-391B-46A4-A125-7FBD989C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3743-72E0-4E4A-BBB2-1A95287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3DAC-E54C-4ABF-8AE2-BBE644A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B319-E8C8-4103-8C61-B2530C9A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D458-12E0-4DA1-BAEA-9BAD3A1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6DA-D2D3-4605-9724-978FE14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E3E-5945-4833-9B1F-A01301D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DC8-3565-4C83-B300-81411CB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4174-7F33-4553-859D-C5F9667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451C-888D-4FA3-B85A-B3DC0BF4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5D0A-1978-41E4-B6E0-FC1817FB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63F-7F42-4156-8A46-60261F47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A33-5E29-44F6-B1DF-BA318BA7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4A6-F8D4-46C0-A6B3-80D2A81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717-E94A-4282-8B63-AE3AB5C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FEB-8B8D-4A9C-ADDB-1B402985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3BB-7750-4E5C-8BBD-0EADCAD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DBC-3677-48FC-8F84-A6FA45A0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ADA-0DDB-41AB-8CFE-EA0EEA2164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8E3-ABD0-4B18-8956-AEE5678D1A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78560" cy="7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сновные направления работы Бюро по стандарта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58920" y="167472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. Межгосударственная стандартизац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анализ, планирование, координация работы МТК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подготовка НД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. Обеспечение единства измерений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. Оценка соответств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. Надзор и контроль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6. Обращение химическ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. Премия качеств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. Каталогизац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9. Международное сотрудниче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. Информационные технологии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D269-01D8-480C-B9D4-A3E5679F6F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анализу гармонизации законодательства государств-участников СНГ в области подтверждения соответствия в соответствии с международными подход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обеспечению идентичности правил и процедур подтверждения соответствия продукции, поставляемой на национальные рынки государств-участников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р решение вопросов по повышению качества и конкурентоспособности производимой в государствах-участниках СНГ продукции и услуг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онное обеспечение экспортеров об обязательных требованиях к поставляемой продукции, действующих на рынках стран СНГ, и процедурах ее размеще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МС 2010-2012 раздел «Оценка соответствия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ОС,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F32-3F3B-40B1-BCD8-604A5648CB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оценки (подтверждения) соответств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продукции, подлежащей обязательной сертифик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органов по сертификации персонала государств-участников «Соглашения о взаимном признании сертификатов компетентности персонала в области оценки соответствия», принятому 30 мая 2002 года, г. Минск (протокол МГС № 21-2002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оценки (подтверждению) соответствия к заседаниям МГС, НТКОС, НТКА и для Исполнительного комитета СНГ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287-D2A8-4DD9-9ABA-C5998593D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кредит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созданию механизма взаимного признания результатов работ по аккредитации государствами-участниками СНГ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налитический обзор о системах аккредитации в государствах-участниках СНГ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проекту «Соглашения о взаимном признании аккредитации органов по сертификации и испытательных лабораторий (центров), выполняющих работы по оценке (подтверждению) соответствия»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еализации Программы взаимодействия по вопросам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азработке и реализации «Программы разработки и пересмотра межгосударственных стандартов по вопросам аккредитации на основе международных нормативных документов (основополагающие документы)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аккредитации к заседаниям МГС, НТКА и для Исполнительного комитета СНГ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BF4-BC1D-4AB5-BFB7-E49577A90B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дзор и контро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Н и рассылка их НО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лиз предложений НО и подготовка проектов целевых программ надзора и контрол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Н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ординация работ по предотвращению распространения опасн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 надзора к заседаниям МГС, НТК, и для Исполнительного комитет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формирование предложений по гармонизации надзорной деятельност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реписка с Н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B77-4A0F-4BF3-A8D4-7CCF2AA8A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тернет-сайт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ИС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ПС Стандар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асная продук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Д этало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естр МС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ортал МТ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81-5960-4C09-AA8F-D31440B4D9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мия качества С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документов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сайта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сметы расход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Фонда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Исполнительным комитетом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ординация взаимодействия экспертов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ация проведения семинара для подготовки экспер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работка документа для вручения экспертам по окончанию семинар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экспертных комисси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заключением договоров с претендентами на звание лауреа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Жюри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ы, связанные с организацией вручения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буклет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отчета на утверждение Жюри конкурса по проведению конкурс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изготовлением Приз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по отчетам претендентов, по экспертным заключениям, по финансовым документам для предприятий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F2C-3263-4872-BDF5-F4CE4E2897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7295" t="1966" r="9998" b="24317"/>
          <a:stretch/>
        </p:blipFill>
        <p:spPr>
          <a:xfrm>
            <a:off x="395280" y="692280"/>
            <a:ext cx="7921800" cy="49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3C8-51B7-4BB8-A018-CF9D5B771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редложений НО по гармонизации технических регламентов государств – участников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обобщенных предложений и организация их рассмотрения НО, на заседаниях НТК и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о поручению МГС проекта соглашения «О межгосударственных технических регламентах государств – участников СНГ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б учете замечаний и предложений 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ение проекта Соглашения и связанных с ним материалов в Исполнительный комитет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совместно с Исполнительный комитет СНГ материалов по учету замечаний и предложений государств при рассмотрении на КЭВ и Э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технического регулир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DC4-409B-4210-9306-FE43B27D2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аналитических материалов для Председателя, Ответственного секретаря и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выполнения решений МГС (подготовка и рассылка НО планов-графиков и учет их выполнения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О информации о работе МГ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перечней приоритетных направлений работ по межгосударственной стандартизации и мониторинг их реал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я программы работ по межгосударственной стандартизации, координация ее реализации и актуализац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межгосударственных программ стандарт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межгосударственной стандартизаци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ХП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328-7B42-4C4F-8924-ADA2403E1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работы АИС МГС и подготовка предложений по совершенствован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материалов, представляемых НО для учреждения МТК на соответствие требованиям ПМГ 02-2008, дублирования областей деятельности, заинтересованности государ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ординация работы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уализация Указателя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дение Интернет-сайта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стандартизации, информационным технологиям, каталогизации, работе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писка с НО и МТ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E2B-5307-4615-948D-BE4FB6538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Анализ НД, размещенных в АИС МГС на принятие, на предмет полноты согласования, учета замечаний и предложений НО, присвоение обозначений, пригодности для издания и внесение данных в  АИС МГС (в раздел «Заполняет Бюро»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Формирование перечней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ринятие «по переписке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меющих разноглас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яемых на рассмотрение НТКС и принятие МГ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Конвертирование принятых НД в ИПС «СНГ Стандар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Дополнение ИПС «СНГ Стандарт», недостающими реквизитами, актуализация каталога межгосударственных НД и рассылка НО, рассылка англоязычной версии ИСО, МЭК,СЕ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220-60D6-4CE6-89F2-B51FFC5CD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личество принятых межгосударственных стандар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421000"/>
          <a:ext cx="83818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21000"/>
                    <a:ext cx="8381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27C-E4DD-4A3C-9112-A51A9A8ED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Регистрация принятых НД: анализ раздела 2 «Нормативные ссылки», подготовка титульных и листов предисловий с данными о регистрации, распечатка  и направление НО – разработчику вместе с  замечаниями, выявленными при регистрации  и отправка электронных версий принятых НД НО – разработчика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гистрация электронных версий НД, принятых МНТК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Подготовка информации о принятых НД на заседании МГС, по переписке,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МНТК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для опубликования в информационных указател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Размещение поправок в АИС МГС, поступающих от НО, и поправок о дополнительном присоединении к принятым Н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Подготовка и размещение в АИС МГС НД на изд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Переписка с НО и МТ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. Формирование дел принятых НД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7FE-1619-4D25-9B26-EFEE9C113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еспечение единства измер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ординация работ по реализации решений МГС, НТК Метр, 6 РГ по метрологии,  10 межгосударственных программ и планов в области метрологического обеспеч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рмирование реестров национальных эталонов, СИ, СО, СТД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 Метр и РГ Метр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 Метр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с КООМ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ежгосударственных соглашений по метр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метрологии и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писка с 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781-87AC-4588-A8F2-9FCBD0310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2:34:17Z</dcterms:created>
  <dc:creator>client801_7</dc:creator>
  <dc:description/>
  <dc:language>en-US</dc:language>
  <cp:lastModifiedBy>Сонец</cp:lastModifiedBy>
  <dcterms:modified xsi:type="dcterms:W3CDTF">2013-03-28T06:33:49Z</dcterms:modified>
  <cp:revision>11</cp:revision>
  <dc:subject/>
  <dc:title>Основные направления работы Бюро</dc:title>
</cp:coreProperties>
</file>